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6741-C597-4D2A-BAA8-45BDDEBF0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044E-493F-4941-AB67-586BB2B63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7760-CE05-48BC-838A-1BAA99F1E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1D6E-E49F-4A84-B782-A74EF75EC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CEBC-8DE0-47EB-95DE-BB9B12DFE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EC41-E667-4C0D-9D98-8127946AF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5518-86C1-4D56-B9CF-7E4015E21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A9BA-83E1-47C3-9ADB-4EFC40022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F830-5C40-49AB-931C-8052159A4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980B-83DC-47AB-B85A-BF8C4880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7956-3FEF-4B81-B48F-72AC565C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967C-D858-49C4-9C28-0BAC2E9F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059F4-A56B-417D-9B61-0996BF4E3B2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050920" y="0"/>
            <a:ext cx="5038920" cy="13622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250920" y="5410080"/>
            <a:ext cx="5038560" cy="1447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elt.oup.com/teachers/englishfile/?cc=global&amp;selLanguage=en" TargetMode="External"/><Relationship Id="rId3" Type="http://schemas.openxmlformats.org/officeDocument/2006/relationships/hyperlink" Target="http://elt.oup.com/teachers/englishfile/?cc=global&amp;selLanguage=en" TargetMode="External"/><Relationship Id="rId4" Type="http://schemas.openxmlformats.org/officeDocument/2006/relationships/hyperlink" Target="http://elt.oup.com/teachers/englishfile/?cc=global&amp;selLanguage=en" TargetMode="External"/><Relationship Id="rId5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elt.oup.com/student/englishfile/?cc=global&amp;selLanguage=en&amp;mode=hub" TargetMode="External"/><Relationship Id="rId3" Type="http://schemas.openxmlformats.org/officeDocument/2006/relationships/hyperlink" Target="http://elt.oup.com/student/englishfile/?cc=global&amp;selLanguage=en&amp;mode=hub" TargetMode="External"/><Relationship Id="rId4" Type="http://schemas.openxmlformats.org/officeDocument/2006/relationships/hyperlink" Target="http://elt.oup.com/student/englishfile/?cc=global&amp;selLanguage=en&amp;mode=hub" TargetMode="External"/><Relationship Id="rId5" Type="http://schemas.openxmlformats.org/officeDocument/2006/relationships/hyperlink" Target="http://elt.oup.com/student/englishfile/?cc=global&amp;selLanguage=en&amp;mode=hub" TargetMode="External"/><Relationship Id="rId6" Type="http://schemas.openxmlformats.org/officeDocument/2006/relationships/hyperlink" Target="http://elt.oup.com/student/englishfile/?cc=global&amp;selLanguage=en&amp;mode=hub" TargetMode="External"/><Relationship Id="rId7" Type="http://schemas.openxmlformats.org/officeDocument/2006/relationships/hyperlink" Target="http://elt.oup.com/student/englishfile/?cc=global&amp;selLanguage=en&amp;mode=hub" TargetMode="External"/><Relationship Id="rId8" Type="http://schemas.openxmlformats.org/officeDocument/2006/relationships/hyperlink" Target="http://elt.oup.com/student/englishfile/?cc=global&amp;selLanguage=en&amp;mode=hub" TargetMode="External"/><Relationship Id="rId9" Type="http://schemas.openxmlformats.org/officeDocument/2006/relationships/hyperlink" Target="http://elt.oup.com/student/englishfile/?cc=global&amp;selLanguage=en&amp;mode=hub" TargetMode="External"/><Relationship Id="rId10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788000" y="429264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771640" y="4292640"/>
            <a:ext cx="1368720" cy="1368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780000" y="429264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132000" y="2754360"/>
            <a:ext cx="2735280" cy="2187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764640"/>
            <a:ext cx="792144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Coursebooks</a:t>
            </a:r>
            <a:br>
              <a:rPr sz="5400"/>
            </a:b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Digital Suppor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2771640" y="4292640"/>
            <a:ext cx="1368720" cy="1368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3780000" y="429264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4788000" y="429264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2771640" y="4292640"/>
            <a:ext cx="1368720" cy="1368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3780000" y="429264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4360" y="2565360"/>
            <a:ext cx="80643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ulti-ROM has individual code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 Login as part of a class or self-study user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 Extra SKILLS practice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 Tests (free and to bu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528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Student’s Book – Multi-ROM Oxfordenglishtesting.c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5640" y="980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Student’s Book – Multi-R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24000" y="1773360"/>
            <a:ext cx="4681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ink to Oxfordenglishtesting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619280" y="2349360"/>
            <a:ext cx="5545080" cy="3335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932360" y="350028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5640" y="98100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Oxfordenglishtesting.c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932360" y="350028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6840720" cy="41148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 flipV="1">
            <a:off x="3995640" y="2349360"/>
            <a:ext cx="0" cy="7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788000" y="2349360"/>
            <a:ext cx="0" cy="7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187280" y="1700280"/>
            <a:ext cx="6624720" cy="39862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Oxfordenglishtesting.c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1280" y="2349360"/>
            <a:ext cx="792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198900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4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3284640"/>
            <a:ext cx="165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lick on “Part” or individual Q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19640" y="3789360"/>
            <a:ext cx="203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hows student if question was right or wr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3851280" y="3428640"/>
            <a:ext cx="1441440" cy="647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835280" y="3500280"/>
            <a:ext cx="360360" cy="2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292720" y="494172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Writing: Save &amp; send to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2556000" y="4581360"/>
            <a:ext cx="2808000" cy="503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4360" y="2060640"/>
            <a:ext cx="769932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3</a:t>
            </a: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Oxford Teachers’ Club</a:t>
            </a: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New English File – Teachers’ S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11280" y="981000"/>
            <a:ext cx="7772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Oxford Teachers’ Club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New English File – Teachers’ S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349360"/>
            <a:ext cx="777384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Best extras competitio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– Extra activities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EFR / Portfoli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– Can dos / Revision sheets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tudy link resource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– Ss learning record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eacher Link extra ideas &amp; materials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nd of lesson coolers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ini phrasebook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ading text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– In Word: Edi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11280" y="981000"/>
            <a:ext cx="7772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Oxford Teachers’ Club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New English File – Teachers’ S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492280"/>
            <a:ext cx="777240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icture Bank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– Flashcards (print / IWB)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rossword Maker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– NEF or make your own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Wordlists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Weblinks / Projects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istening Script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– In Word: Editable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loze Ma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6626160" cy="39859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11280" y="981000"/>
            <a:ext cx="77724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Oxford Teachers’ Club - NE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96000" y="4797360"/>
            <a:ext cx="244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Oxford </a:t>
            </a:r>
            <a:r>
              <a:rPr b="0" lang="es-ES_tradnl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Teachers</a:t>
            </a:r>
            <a:r>
              <a:rPr b="0" lang="es-ES_tradnl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' Club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licnef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licne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4360" y="2060640"/>
            <a:ext cx="769932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4</a:t>
            </a: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New English File</a:t>
            </a: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Students’ S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4248000" cy="3315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11280" y="981000"/>
            <a:ext cx="7772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Oxford Teachers’ Club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New English File – Students’ S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858920" y="4869000"/>
            <a:ext cx="32418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NEF 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Student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Site</a:t>
            </a:r>
            <a:br>
              <a:rPr sz="1200"/>
            </a:b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NEF 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Student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 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Site</a:t>
            </a:r>
            <a:r>
              <a:rPr b="0" lang="es-ES_tradnl" sz="1200" spc="-1" strike="noStrike">
                <a:solidFill>
                  <a:srgbClr val="000099"/>
                </a:solidFill>
                <a:latin typeface="Arial"/>
              </a:rPr>
              <a:t> (via Teacher log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932360" y="2276640"/>
            <a:ext cx="370368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ow many Ss have used the NEF student si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219640" y="3500280"/>
            <a:ext cx="29480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3,000,000+!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ve you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??% of learning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s lost within 24 hou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11280" y="981000"/>
            <a:ext cx="7772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Oxford Teachers’ Club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New English File – Students’ S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2276280"/>
            <a:ext cx="7846920" cy="33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Game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– Anteater/School/Space Game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Grammar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– Gap fills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How words work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– Gap fills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actical English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– Correct the mistakes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onunciatio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– Individual sounds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ext Builder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– 25-100% words taken out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Vocabulary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– Wordsearch / Crossword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Weblinks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dioms and collocations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hrasal Verbs in 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4360" y="2060640"/>
            <a:ext cx="769932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5</a:t>
            </a: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New English File</a:t>
            </a: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Test CD-R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1280" y="981000"/>
            <a:ext cx="77724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New English File – Test CD-R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84692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 Editable Progress tests (Word)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 Course tests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 Editable tapescripts (Wor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116000" y="3284640"/>
            <a:ext cx="1797120" cy="25304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132000" y="3284640"/>
            <a:ext cx="4321440" cy="251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4360" y="2060640"/>
            <a:ext cx="769932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6</a:t>
            </a: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New English File</a:t>
            </a: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iP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11280" y="981000"/>
            <a:ext cx="77724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New English File – iP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7080" y="1916280"/>
            <a:ext cx="7847280" cy="15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o you use them?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55640" y="2781360"/>
            <a:ext cx="80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need for the CD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 Listening tapescripts (run at same time as the listen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ocabulary G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ighlighting areas in the 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Next week: What are you going to use with your S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23520" y="885960"/>
            <a:ext cx="277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124000" y="3141720"/>
            <a:ext cx="1800360" cy="10825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067280" y="3141720"/>
            <a:ext cx="1368360" cy="10684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5653080" y="3141720"/>
            <a:ext cx="1871640" cy="10904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7697880" y="3130560"/>
            <a:ext cx="761760" cy="1090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539640" y="3141720"/>
            <a:ext cx="1440000" cy="107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What extra support do the coursebooks off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4360" y="3284640"/>
            <a:ext cx="777240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o you/your Ss use any of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651640" y="3429000"/>
            <a:ext cx="2857320" cy="2857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907560"/>
            <a:ext cx="662472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oday:</a:t>
            </a:r>
            <a:br>
              <a:rPr sz="3200"/>
            </a:br>
            <a:br>
              <a:rPr sz="1800"/>
            </a:b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New English File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 - Student’s Book - Multi-ROM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2 - Oxfordenglishtesting.com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3 - Oxford Teachers’ Club website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4 - Students’ website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5 - Test CD-ROM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6 - iPack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8920" y="907560"/>
            <a:ext cx="662472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1</a:t>
            </a: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New English File</a:t>
            </a: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Student’s Book - Multi-RO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908000" y="1628640"/>
            <a:ext cx="5472360" cy="4104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1052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Student’s Book – Multi-R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268360" y="2636640"/>
            <a:ext cx="1008360" cy="71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6156360" y="2637000"/>
            <a:ext cx="122400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1052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Student’s Book – Multi-R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2276640"/>
            <a:ext cx="27367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ctivities on 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1989000"/>
            <a:ext cx="496872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------ Q------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--------- B---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---- B---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-------- English / C--------- English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--------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--- P-------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W------- L--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5640" y="1052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Student’s Book – Multi-R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2276640"/>
            <a:ext cx="27367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ctivities on 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76720" y="1989000"/>
            <a:ext cx="518472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rammar Quizzes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ocabulary Bank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ound Bank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actical English / Colloquial English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ctation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am Practice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Workbook Listen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8920" y="907560"/>
            <a:ext cx="662472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New English File</a:t>
            </a: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Student’s Book - Multi-ROM</a:t>
            </a:r>
            <a:br>
              <a:rPr sz="3600"/>
            </a:b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ink to OxfordEnglishtesting.com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2T12:19:59Z</dcterms:created>
  <dc:creator>CDobson</dc:creator>
  <dc:description/>
  <dc:language>en-US</dc:language>
  <cp:lastModifiedBy>BRoberts</cp:lastModifiedBy>
  <dcterms:modified xsi:type="dcterms:W3CDTF">2012-03-02T10:39:52Z</dcterms:modified>
  <cp:revision>200</cp:revision>
  <dc:subject/>
  <dc:title>Diapositiva 1</dc:title>
</cp:coreProperties>
</file>